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FA-8562-4302-A30E-280690B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9AD-A5C7-4DA6-9A72-B48108C3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4AE-AC92-430C-B941-E8777666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4C1-B3C4-46E5-B931-299B0C71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CBC4-CD42-42C2-B969-D53A508A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57E-B561-4C90-9984-1F6B49F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E6F6-83DB-43EF-A87D-9E2B444C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5B93-B2D7-4765-BEAA-DCF198A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4B92-F9C2-498C-B795-3679010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A896-6195-4F7E-9EC7-2B783B2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3269-7CA2-4DB3-A1B8-9079E92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C5D-E523-426E-B24E-767DFF37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799D-9590-4687-9A70-7DF16D4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F266-5A6E-4DA9-BA3E-A455D07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FFAC-5175-4FC5-8FED-67B64D9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6C8D-B5BA-4722-A73F-2F47EE1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923-A462-4A65-8C79-4D6A8A08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C35-D5EF-4327-8CCB-6F7FD48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AE9-D20C-4C9C-AC53-503DC9F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511-9CFF-429B-BC3E-65D43DF7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FF7-3A3E-4CB0-83CF-4CB1281B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7B7-7533-41E3-920A-8796B2EB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C04-77EC-496B-9760-C217055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729-CE1E-49B3-93F3-672AA5B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A3E-C16D-4F91-B399-D92CA38FF2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B16B-D6C1-4A00-9E32-F0B1E05553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cri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hould be as detailed as is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nly transcribe the sections you feel are necessary to your discuss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General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umber the lines if the section i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dicate who is spea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‘tidy up’ the transcript, say how you have done th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can’t hear, write (inaudible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tion Research topic: teaching grammar using a C-R approa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llect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’ 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recor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ry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tor’s feedback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s’ 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How will you integrate this into your assig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-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, participants,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C-R liter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s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feedback/Peer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of spoken da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kind of data is availabl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rded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ary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s’ l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ers’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eld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analysis and co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repeated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nguage or ideas in the texts that you hav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oloured pens, index cards or another system to code the respo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Your codes can either be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‘a priori’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you decide on these before you start to code) or they can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emerg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om the da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naires are likely to have a priori categories for closed questions; fieldnotes, diaries, tapescripts are likely to have a mixture of bo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sis of Spoken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Coding syste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e.g. 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Types o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  e.g. questions (open vs closed; genuine vs display; lower order vs higher order) or answers (one word; medium turns; long turn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Quality of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.g teacher talk; student talk; explanations (vocabulary/grammar); instructions; teacher-student interaction; checking understan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mount of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talk/teacher talk; whole class work/pair work/group work/individual work; wait time; thinking time; working with students’ answers (dialogic talk); silence; one student speaking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tool used in qualitative research to help ensure validity (that the research is of good quality and acceptable.  Internal validity: that the claims made are trustworthy; external validity: how generalisable are our claims).                         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searchers elicit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multiple perspectiv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n the situation being studi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data for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 is designed to be heard, not read, so never move straight from recording to transcribing: always take time to listen carefull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18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listen to the tape you’ve made, your first reaction will be, ‘Nothing’s happening’.  In my experience, this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case when someone new to analysis listens to a tape for the first time…..listen to your tape over and over and over again …until you find part of the lesson where something interesting is happening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 1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7-11-29T09:4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